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656B-1487-4544-BCFB-28F2B522D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5F10-2FE4-48FC-88B4-F1DBFC2D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F8D3-D68D-493F-9610-57E66D356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76D8-6C62-4C17-8B12-6AC984077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DDE5A-0615-4094-91D4-B9D4C5893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5F26-C849-4AF9-BC99-EF774648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A2D3-12FE-4809-B958-69EB2DB1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23A8-3FBC-4D9E-A092-FA17B042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8250-5744-4861-9ABA-4E804B1C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A6BB-0D29-4E5C-8D9C-EC4C0494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5F2E-95E0-44FE-B83C-83FB1B82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2591-5BDF-4216-8410-C9D4461C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CD33-455D-430C-AD45-3F3ACE88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1382-3E47-4693-8161-BB61AF71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856C-861A-44EF-AA14-C78D3BB3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FDD5-B1E8-46DE-B48B-4A1D8398D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4CCE-57C2-457C-8B04-522433AA2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0E67-1AEE-490E-B2E8-7913F4B5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3570-5697-4827-AC8D-0B1ED9A4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CF9D-91CA-4558-B238-D11DE196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A61B-4AD1-463D-A769-B4FB7654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5E75-BFC0-41FD-8151-4AAD8A34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0660-70D8-4E1B-B3F1-292227B2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534D-1EA9-4C51-96F2-77586A43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9DAB-D7AD-4FD5-9525-1CBFC6D832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1032-FD30-4AF7-BB8A-49DB4D672BE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4/Pieter_Bruegel_d._&#196;._107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ationalgallery.org.uk/cgi-bin/WebObjects.dll/CollectionPublisher.woa/wa/zoomImage?workNumber=NG186&amp;collectionSection=work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ccff"/>
                </a:solidFill>
                <a:latin typeface="Arial"/>
              </a:rPr>
              <a:t>The European Renaissance</a:t>
            </a:r>
            <a:endParaRPr b="0" lang="en-US" sz="6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naissance in the Nor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r. Paglia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ymour High Scho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ccff"/>
                </a:solidFill>
                <a:latin typeface="Arial"/>
              </a:rPr>
              <a:t>Jan van Eyck</a:t>
            </a:r>
            <a:r>
              <a:rPr b="0" i="1" lang="en-US" sz="4200" spc="-1" strike="noStrike">
                <a:solidFill>
                  <a:srgbClr val="99ccff"/>
                </a:solidFill>
                <a:latin typeface="Arial"/>
              </a:rPr>
              <a:t> - Giovanni Arnolfini &amp; His Wife</a:t>
            </a:r>
            <a:r>
              <a:rPr b="0" lang="en-US" sz="4200" spc="-1" strike="noStrike">
                <a:solidFill>
                  <a:srgbClr val="99ccff"/>
                </a:solidFill>
                <a:latin typeface="Arial"/>
              </a:rPr>
              <a:t> </a:t>
            </a:r>
            <a:br>
              <a:rPr sz="4200"/>
            </a:br>
            <a:r>
              <a:rPr b="0" lang="en-US" sz="4200" spc="-1" strike="noStrike">
                <a:solidFill>
                  <a:srgbClr val="99ccff"/>
                </a:solidFill>
                <a:latin typeface="Arial"/>
              </a:rPr>
              <a:t>(details)</a:t>
            </a:r>
            <a:endParaRPr b="0" lang="en-US" sz="4200" spc="-1" strike="noStrike">
              <a:solidFill>
                <a:srgbClr val="99cc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143000" y="914400"/>
            <a:ext cx="4307040" cy="594360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99ccff"/>
                </a:solidFill>
                <a:latin typeface="Arial"/>
              </a:rPr>
              <a:t>Quentin Massys’ </a:t>
            </a:r>
            <a:br>
              <a:rPr sz="3900"/>
            </a:br>
            <a:r>
              <a:rPr b="0" i="1" lang="en-US" sz="3900" spc="-1" strike="noStrike">
                <a:solidFill>
                  <a:srgbClr val="99ccff"/>
                </a:solidFill>
                <a:latin typeface="Arial"/>
              </a:rPr>
              <a:t>The Moneylender &amp; His Wife</a:t>
            </a:r>
            <a:r>
              <a:rPr b="0" lang="en-US" sz="3900" spc="-1" strike="noStrike">
                <a:solidFill>
                  <a:srgbClr val="99ccff"/>
                </a:solidFill>
                <a:latin typeface="Arial"/>
              </a:rPr>
              <a:t>, 1514</a:t>
            </a:r>
            <a:endParaRPr b="0" lang="en-US" sz="3900" spc="-1" strike="noStrike">
              <a:solidFill>
                <a:srgbClr val="99cc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76520" y="1190520"/>
            <a:ext cx="6019560" cy="566748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4343400" y="5638680"/>
            <a:ext cx="1219320" cy="10670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5229360"/>
            <a:ext cx="2114640" cy="1247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17560" y="419040"/>
            <a:ext cx="7508880" cy="5622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817560" y="488880"/>
            <a:ext cx="7435800" cy="5630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"/>
              </a:rPr>
              <a:t>Albrecht D</a:t>
            </a:r>
            <a:r>
              <a:rPr b="0" lang="en-US" sz="4000" spc="-1" strike="noStrike">
                <a:solidFill>
                  <a:srgbClr val="99ccff"/>
                </a:solidFill>
                <a:latin typeface="Arial"/>
                <a:ea typeface="Arial"/>
              </a:rPr>
              <a:t>ürer</a:t>
            </a:r>
            <a:br>
              <a:rPr sz="4000"/>
            </a:br>
            <a:r>
              <a:rPr b="0" lang="en-US" sz="4000" spc="-1" strike="noStrike">
                <a:solidFill>
                  <a:srgbClr val="99ccff"/>
                </a:solidFill>
                <a:latin typeface="Arial"/>
                <a:ea typeface="Arial"/>
              </a:rPr>
              <a:t>Self Portrait, 1498</a:t>
            </a:r>
            <a:endParaRPr b="0" lang="en-US" sz="4000" spc="-1" strike="noStrike">
              <a:solidFill>
                <a:srgbClr val="99cc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743200" y="1676520"/>
            <a:ext cx="3797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Arial"/>
              </a:rPr>
              <a:t>Pieter Bruegel,</a:t>
            </a:r>
            <a:br>
              <a:rPr sz="3600"/>
            </a:br>
            <a:r>
              <a:rPr b="0" lang="en-US" sz="3600" spc="-1" strike="noStrike">
                <a:solidFill>
                  <a:srgbClr val="99ccff"/>
                </a:solidFill>
                <a:latin typeface="Arial"/>
              </a:rPr>
              <a:t>Winter Landscape with Bird Trap (1565)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pic>
        <p:nvPicPr>
          <p:cNvPr id="137" name="" descr="File:Pieter Bruegel d. Ä. 10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417680"/>
            <a:ext cx="86868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Arial"/>
              </a:rPr>
              <a:t>Reading Strategy: Identifying main ideas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 track of the main ideas of this section (pg. 480-485) by creating a chart like the one below.  Add several details per topic to complete the cha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0" y="4394160"/>
            <a:ext cx="9143640" cy="1832040"/>
            <a:chOff x="0" y="4394160"/>
            <a:chExt cx="9143640" cy="1832040"/>
          </a:xfrm>
        </p:grpSpPr>
        <p:cxnSp>
          <p:nvCxnSpPr>
            <p:cNvPr id="141" name="_s27668"/>
            <p:cNvCxnSpPr>
              <a:stCxn id="142" idx="0"/>
              <a:endCxn id="143" idx="2"/>
            </p:cNvCxnSpPr>
            <p:nvPr/>
          </p:nvCxnSpPr>
          <p:spPr>
            <a:xfrm flipV="1" rot="16200000">
              <a:off x="1778760" y="5255280"/>
              <a:ext cx="229320" cy="7977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4" name="_s27666"/>
            <p:cNvCxnSpPr>
              <a:stCxn id="145" idx="0"/>
              <a:endCxn id="143" idx="2"/>
            </p:cNvCxnSpPr>
            <p:nvPr/>
          </p:nvCxnSpPr>
          <p:spPr>
            <a:xfrm flipH="1" flipV="1" rot="5400000">
              <a:off x="981360" y="5254920"/>
              <a:ext cx="229320" cy="799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6" name="_s27664"/>
            <p:cNvCxnSpPr>
              <a:stCxn id="147" idx="0"/>
              <a:endCxn id="148" idx="2"/>
            </p:cNvCxnSpPr>
            <p:nvPr/>
          </p:nvCxnSpPr>
          <p:spPr>
            <a:xfrm flipV="1" rot="16200000">
              <a:off x="6240600" y="3185280"/>
              <a:ext cx="229320" cy="3566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9" name="_s27662"/>
            <p:cNvCxnSpPr>
              <a:stCxn id="150" idx="0"/>
              <a:endCxn id="148" idx="2"/>
            </p:cNvCxnSpPr>
            <p:nvPr/>
          </p:nvCxnSpPr>
          <p:spPr>
            <a:xfrm flipV="1" rot="16200000">
              <a:off x="5133600" y="4292280"/>
              <a:ext cx="229320" cy="135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1" name="_s27661"/>
            <p:cNvCxnSpPr>
              <a:stCxn id="152" idx="0"/>
              <a:endCxn id="148" idx="2"/>
            </p:cNvCxnSpPr>
            <p:nvPr/>
          </p:nvCxnSpPr>
          <p:spPr>
            <a:xfrm flipH="1" flipV="1" rot="5400000">
              <a:off x="4026960" y="4537440"/>
              <a:ext cx="229320" cy="8625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3" name="_s27660"/>
            <p:cNvCxnSpPr>
              <a:stCxn id="143" idx="0"/>
              <a:endCxn id="148" idx="2"/>
            </p:cNvCxnSpPr>
            <p:nvPr/>
          </p:nvCxnSpPr>
          <p:spPr>
            <a:xfrm flipH="1" flipV="1" rot="5400000">
              <a:off x="2919240" y="3429720"/>
              <a:ext cx="229320" cy="3078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48" name="_s27656"/>
            <p:cNvSpPr/>
            <p:nvPr/>
          </p:nvSpPr>
          <p:spPr>
            <a:xfrm>
              <a:off x="2719440" y="4394160"/>
              <a:ext cx="3704760" cy="4604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600" rIns="486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Northern Renaissance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_s27657"/>
            <p:cNvSpPr/>
            <p:nvPr/>
          </p:nvSpPr>
          <p:spPr>
            <a:xfrm>
              <a:off x="489960" y="5083200"/>
              <a:ext cx="2012040" cy="45720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600" rIns="486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rtist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_s27658"/>
            <p:cNvSpPr/>
            <p:nvPr/>
          </p:nvSpPr>
          <p:spPr>
            <a:xfrm>
              <a:off x="2703960" y="5083200"/>
              <a:ext cx="2011680" cy="45720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600" rIns="486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Humanist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_s27659"/>
            <p:cNvSpPr/>
            <p:nvPr/>
          </p:nvSpPr>
          <p:spPr>
            <a:xfrm>
              <a:off x="4917960" y="5083200"/>
              <a:ext cx="2011680" cy="45720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600" rIns="486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Writer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_s27663"/>
            <p:cNvSpPr/>
            <p:nvPr/>
          </p:nvSpPr>
          <p:spPr>
            <a:xfrm>
              <a:off x="7131960" y="5083200"/>
              <a:ext cx="2011680" cy="45720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600" rIns="486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inting Revolu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_s27665"/>
            <p:cNvSpPr/>
            <p:nvPr/>
          </p:nvSpPr>
          <p:spPr>
            <a:xfrm>
              <a:off x="0" y="5769000"/>
              <a:ext cx="1393920" cy="45720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rma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_s27667"/>
            <p:cNvSpPr/>
            <p:nvPr/>
          </p:nvSpPr>
          <p:spPr>
            <a:xfrm>
              <a:off x="1596240" y="5769000"/>
              <a:ext cx="1393920" cy="45720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lemis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Art: German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m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igious/Classical myt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dsca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odcuts &amp; Engrav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gur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brecht 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ür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ans Holbein the Youn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graphic detail in portra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Art: Flemish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asants sc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dscapes + People = Full sc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y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il pain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r detai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g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n van Ey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eter Brueg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Christian Humanism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m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orm soci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the chur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ristianity of the Hear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gur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asm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e Praise of Fo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satire of merchants, scholars, lovers, and pompous priests…Arrogant peo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omas M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Utopi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A land without greed, corruption, or w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held Christian val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Key Idea…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AL INTERA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deas of the Italian Renaissance spread to Northern Europe in the 1400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Writers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kespe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ist values in pl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Julius Caesar, Antony &amp; Cleopatr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ichard II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historical plays-History is a HUMA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omeo &amp; Juliet, The Taming of the Shrew, The Merchant of Veni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all focus on the lives of merchant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The Printing Revolution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Key Vocabulary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op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ristian Humani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able ty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era pa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il pa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brecht 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ür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landers/Flem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an van Ey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ieter Bruegel (the eld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siderius Erasm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omas M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lliam Shakespe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the themes that northern European artists, humanists, and writers explo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how the printing revolution shaped European socie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"/>
              </a:rPr>
              <a:t>Where was the “Northern” Renaissance happening?</a:t>
            </a:r>
            <a:endParaRPr b="0" lang="en-US" sz="4000" spc="-1" strike="noStrike">
              <a:solidFill>
                <a:srgbClr val="99cc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371600" y="1230480"/>
            <a:ext cx="6934320" cy="562752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9" name=""/>
          <p:cNvGrpSpPr/>
          <p:nvPr/>
        </p:nvGrpSpPr>
        <p:grpSpPr>
          <a:xfrm>
            <a:off x="-228600" y="3047760"/>
            <a:ext cx="9372600" cy="1447560"/>
            <a:chOff x="-228600" y="3047760"/>
            <a:chExt cx="9372600" cy="1447560"/>
          </a:xfrm>
        </p:grpSpPr>
        <p:sp>
          <p:nvSpPr>
            <p:cNvPr id="110" name=""/>
            <p:cNvSpPr/>
            <p:nvPr/>
          </p:nvSpPr>
          <p:spPr>
            <a:xfrm flipV="1">
              <a:off x="0" y="4419360"/>
              <a:ext cx="9144000" cy="75960"/>
            </a:xfrm>
            <a:prstGeom prst="line">
              <a:avLst/>
            </a:prstGeom>
            <a:ln cap="rnd" w="7632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-228600" y="3047760"/>
              <a:ext cx="9372600" cy="75960"/>
            </a:xfrm>
            <a:prstGeom prst="line">
              <a:avLst/>
            </a:prstGeom>
            <a:ln cap="rnd" w="7632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895480" y="1219320"/>
            <a:ext cx="2743200" cy="5943600"/>
            <a:chOff x="2895480" y="1219320"/>
            <a:chExt cx="2743200" cy="5943600"/>
          </a:xfrm>
        </p:grpSpPr>
        <p:sp>
          <p:nvSpPr>
            <p:cNvPr id="113" name=""/>
            <p:cNvSpPr/>
            <p:nvPr/>
          </p:nvSpPr>
          <p:spPr>
            <a:xfrm>
              <a:off x="2895480" y="1219320"/>
              <a:ext cx="0" cy="5943600"/>
            </a:xfrm>
            <a:prstGeom prst="line">
              <a:avLst/>
            </a:prstGeom>
            <a:ln cap="rnd" w="7632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638680" y="1219320"/>
              <a:ext cx="0" cy="5790960"/>
            </a:xfrm>
            <a:prstGeom prst="line">
              <a:avLst/>
            </a:prstGeom>
            <a:ln cap="rnd" w="7632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752480" y="2286000"/>
            <a:ext cx="594360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Comparing Renaissance Art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aly: hum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thern Europe: Christian values, church re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ron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aly: merch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thern Europe: royal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Characteristics of Northern Renaissance Art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391160" cy="38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ention to detai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realism &amp; naturalis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 ideal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scap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hasis on middle-class/peasant li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ails of domestic interi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skill in portra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Jan van Eyck (1395 – 1441)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257800" y="167652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courtly and aristocratic 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urt painter to the Duke of Burgundy, Philip the Goo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Virgin and Chancellor Rol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1435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28600" y="1447920"/>
            <a:ext cx="4906800" cy="541008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486400" y="228600"/>
            <a:ext cx="3352680" cy="62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ccff"/>
                </a:solidFill>
                <a:latin typeface="Arial"/>
              </a:rPr>
              <a:t>Giovanni Arnolfini and His Wife</a:t>
            </a:r>
            <a:br>
              <a:rPr sz="4000"/>
            </a:br>
            <a:br>
              <a:rPr sz="1400"/>
            </a:br>
            <a:r>
              <a:rPr b="1" lang="en-US" sz="3400" spc="-1" strike="noStrike">
                <a:solidFill>
                  <a:srgbClr val="99ccff"/>
                </a:solidFill>
                <a:latin typeface="Arial"/>
              </a:rPr>
              <a:t>(Wedding Portrait)</a:t>
            </a:r>
            <a:br>
              <a:rPr sz="3400"/>
            </a:br>
            <a:r>
              <a:rPr b="1" i="1" lang="en-US" sz="4000" spc="-1" strike="noStrike">
                <a:solidFill>
                  <a:srgbClr val="99ccff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99ccff"/>
                </a:solidFill>
                <a:latin typeface="Arial"/>
              </a:rPr>
              <a:t>Jan Van Eyck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99ccff"/>
                </a:solidFill>
                <a:latin typeface="Arial"/>
              </a:rPr>
              <a:t>143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'Portrait of Giovanni (?) Arnolfini and his Wife ('The Arnolfini Portrait')'">
            <a:hlinkClick r:id="rId1"/>
          </p:cNvPr>
          <p:cNvPicPr/>
          <p:nvPr/>
        </p:nvPicPr>
        <p:blipFill>
          <a:blip r:embed="rId2"/>
          <a:srcRect l="0" t="0" r="0" b="4000"/>
          <a:stretch/>
        </p:blipFill>
        <p:spPr>
          <a:xfrm>
            <a:off x="471600" y="228600"/>
            <a:ext cx="4633920" cy="63244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209680" y="1523880"/>
            <a:ext cx="1219320" cy="1219320"/>
          </a:xfrm>
          <a:prstGeom prst="ellipse">
            <a:avLst/>
          </a:prstGeom>
          <a:noFill/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0T23:20:43Z</dcterms:created>
  <dc:creator>Chris</dc:creator>
  <dc:description/>
  <dc:language>en-US</dc:language>
  <cp:lastModifiedBy>cpagliaro</cp:lastModifiedBy>
  <dcterms:modified xsi:type="dcterms:W3CDTF">2009-05-12T17:28:57Z</dcterms:modified>
  <cp:revision>6</cp:revision>
  <dc:subject/>
  <dc:title>The European Renaissance</dc:title>
</cp:coreProperties>
</file>